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E28-E315-403E-8101-C35B7519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0FE-F87A-445C-827B-0AA71B7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CF0-FFA8-4914-8313-3474574D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B83-FDEC-410D-89BE-AAFBA4CD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B49C-CD62-437B-8306-FFA46182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CB8D-E37D-4E49-8A09-B0E52471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2DDD-632F-4BDE-9AA2-7504FA71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736C-C2AC-457B-AFC1-267C862D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1A59-F17E-4A55-AEA4-531A4230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8DC-DC45-43E7-8FDD-2B50CC9E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2330-6BD2-4C26-BFEF-ED4C3EF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CA3-C36C-480A-A3CD-248DFA6B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79E0-4B80-45A9-8F41-4293444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3F49-43BA-42CE-85D3-D9467F73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5373-F110-485E-A364-3EC4A4C4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227-137B-46E7-82A0-1390319A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57C1-2CD5-40A5-ADF2-F4F21F72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DD6-4DDF-43F3-96AC-F1340D59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99D-E398-4256-9025-A3C2CD97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59C-A2EC-4CCE-95C0-9D4314C2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B52-2726-4948-B403-4A5966D0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EBD-C2F1-46CA-9E52-6F7344D5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85B-FA6D-414C-BBF1-838F312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E2C-FAC3-4434-8E8A-19306B1F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F9E4-EE38-4F30-8F6E-4A645159A7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31B0-00BF-4216-83DE-484C96DB0A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5740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حتّى متى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تى سأظلّ واقفا أسير في مكاني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</a:rPr>
              <a:t>حتّى متى سأبقى هكذ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فلا في ا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م من مرّة نويت و لم أفعل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38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من مرّة وعد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ea typeface="????Boutros Rokaa"/>
              </a:rPr>
              <a:t> و لم أ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 أعود,  أعود اليك فأراك لم تغفل, تحنو عليّ تماما مثل الأب (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) 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تى سأظلّ واقفا أسير في مكاني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</a:rPr>
              <a:t>حتّى متى سأبقى هكذ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فلا في ا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م من مرّة نويت و لم أفعل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من مرّة وعد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ea typeface="????Boutros Rokaa"/>
              </a:rPr>
              <a:t> و لم أ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 أعود,  أعود اليك فأراك لم تغفل, تحنو عليّ تماما مثل الأب (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2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) 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81080"/>
            <a:ext cx="60199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يد أن أدخ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الى أعماقك فأسبح نهر حبّك  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449568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يد أن أسكن بقرب قلبك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0" y="1981080"/>
            <a:ext cx="57913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أنفق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العمر لك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6:11Z</dcterms:created>
  <dc:creator>Charbel Azar</dc:creator>
  <dc:description/>
  <dc:language>en-US</dc:language>
  <cp:lastModifiedBy>Personal</cp:lastModifiedBy>
  <dcterms:modified xsi:type="dcterms:W3CDTF">2008-04-26T08:06:01Z</dcterms:modified>
  <cp:revision>9</cp:revision>
  <dc:subject/>
  <dc:title>PowerPoint Presentation</dc:title>
</cp:coreProperties>
</file>